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57C-6F43-438A-A5FC-02EB7469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6FE-3B2F-46B5-9488-B1BE3F26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21869-5096-4354-B9FB-330FB04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344B58-C615-458B-9E8E-B3EBF25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D7E7BC-45BB-4A23-A51E-B66A194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975C4B-3AE7-44CA-A8A0-CE4B978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6D4DC-3A23-43B6-B823-303C63C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4A372E-4477-48CE-AF20-68CD3A6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3C396-D316-4803-BB09-DF66DCFC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047F65-FE82-4059-B050-FCC9CCD2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4C9B9-77E6-4D69-8CEF-4D751C0F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8B412-4A23-4F0A-A2B7-79838C03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021-9461-4B7C-9628-644FB777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C42D8-5C02-4C9E-A27C-95DDB9E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7BC8-564C-4E1C-8B1B-EC28C29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E4A41-62D3-4BA3-96FE-03BD4FAA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1EAA9-711D-4281-B1FA-D651641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8BCB9-B7C2-46E5-9E91-516E464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AE005-BE80-41AC-9C9C-306A0F2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4E974-820A-4FD1-B2B7-6D05931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2E98-4820-400A-8CCE-E9A28C3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7C691-8804-4F49-97BA-973E8D04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12A7-EEE2-4EDB-A3CF-14F517D3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F8E-06E8-49E6-9168-5988006A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53F3C-97A1-4C08-BBD4-30C8B4A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0D2C-C799-4A2C-96BA-CE5D18C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6D01B-04A1-48FD-AD69-2D20354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3CDEA-F095-4B08-8005-EC0DF1FD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67E9B-1169-4C6F-AA5F-63947890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ED1B-E89F-4919-987C-E9E2D7D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6D9B-375A-41FE-A690-199F1BC1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A91E2-9729-43F7-80B6-A68E116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790A-995E-49E8-83E6-0D272BA4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F52A8-5F6B-4E39-BA97-20657DA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D1D3-F908-4504-AD8C-DC16A7A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50CAF-B441-479E-98BA-1A4F719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9E5D-5DC3-4699-BE72-F3329427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0A220-CA05-4717-A576-16029138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805D0-4B59-4E4D-B6EA-AF4D3153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2A179-AA3D-4769-86B5-24307E6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22469-3377-4527-9919-6DA2B50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02B7E-75FE-4DA3-8E6A-7070B33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AB8E0-0340-4526-8D65-66E225C8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FEF8A-520B-46D3-82A6-939F8E1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6C65F-7745-404A-B5E9-2171260F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B89-ABB7-47C7-BCA0-F5E2FF1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4BA7A-DD25-4524-83B3-7F67710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62395-ECE8-4A20-B0A8-E1D8AD8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43FE-7C8B-480D-8344-EBF3C10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9DEDA-56BE-462C-836D-6E3B38AD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07F08-315B-4E60-8BAA-D31A17D3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EA42B-F7AB-45AA-87CB-54AE5E16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DAC5F-2345-4EFB-B063-44AF99B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31F13-311B-456E-A8C8-C0B410D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2528F-D50E-4EC2-A989-9338FB7C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C884A-35C7-4A69-AD9C-CABBC77A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EDA-14A4-4D84-ACA3-198BFF4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B6588-BB5D-4F02-BF4A-44087EBF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7BB31-B46D-4BA8-ACC2-428D402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B085E-C61E-4AE2-B234-9D994E4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5ED2C-F7C5-4A3D-B8A6-A291C0F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D4441-FB57-417F-AB0D-32A306B0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68248-4988-4BCE-B172-7987F128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53C55-A5C9-4745-BC61-CA4A079C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9B8803-BF07-462B-B8AC-81F860D6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77B37E-D525-4CAE-9083-AC2E0318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227094-C707-4CD4-93F0-C221712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8A55-904B-4972-8A9A-728A9A1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42AAD1-1A6E-4906-8A6C-88B2CBD8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1B8666-7FC8-4C53-ABB0-E1877A6A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017817-AA7D-4A6E-A4CB-C82B46C5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1D2A93-93EC-4127-9D47-D259AC1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474AAC-3404-4FA5-B229-829CD06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D43833-94D0-492A-865C-B33447A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F6338E-20E9-4B04-ADAE-DBEC062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3E6E2E-DAF3-4F79-86D2-7F8D7F29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FBC6F6-952F-42BE-8E3C-A2ABC2D5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40CF72-07B9-4BC8-A67D-903209CE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919C-385B-4435-98E2-89779CB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EEBC2F-6DDD-4F80-9157-E4F171F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59931C-E2D4-424A-B335-7AAE6B8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838365-A250-4A28-84CF-05E2F6B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1EF033-AF29-4C4F-9371-C15857B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14AFD4-1D9F-4512-8751-244142D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0B4C6E-E858-4E08-962A-E15C8EC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4541EC-69AA-41DC-A3AD-204AF1AD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C42684-C093-42D6-BB9A-ED69EDE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D6B16A-BD61-40D3-8E83-A4690F32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C1C6B5-F594-4D81-AAA2-C10BB8E1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519-02F3-44C8-9248-F7BEDDC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F73B0D-2871-42B9-8F31-1A4C7549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2D729-8643-48AE-AF5B-A82A9BBC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7162F-BC86-4A53-8068-7B33BF0E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E7DBE-912E-4862-8665-D13AB64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E2373-12A8-41BF-82F2-A15D6D5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767F7-62C6-425B-8650-97042E6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02038-444D-4317-8FC9-C22F4F3B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0EEC4-0363-4183-AD20-4D48853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0D81-3AD9-4855-A21E-968694B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B735A-1426-4A15-AAD6-68B274C1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A4D6-0CFA-4860-AA85-626C61A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A6007-7531-412C-9BE9-F6499E45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61140-B7B3-4925-A952-6D25BFF9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3CEF5-2101-4ECA-8A62-FBA9145B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DE3B6F-9EE4-4C28-AE68-1F6FFA79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D9E7C7-A7FF-404B-8E2E-0FA67145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B4BFD3-7B05-46A0-95BD-60EF54A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B0FDC9-2CB7-4011-9234-26E7F29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05D5BC-666A-4E07-B9B5-9FF25B1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997435-A8DE-4C65-8C13-8E1B866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7EE1C0-1A33-4ABC-87FD-D3B794F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03B-E808-4ED5-B8BC-14F02B1E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51B-ED60-4CB3-8E34-A56C098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381459-5DC4-4F99-AD29-35AE3D2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A973AE-A38F-4BEB-85E1-5DE49E3A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3942F0-A059-4B9E-846B-05B0617C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130F1C-DA5D-4A29-8FF7-B52BAC17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67AAB7-08DF-4CC4-B73C-1665AD8F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ABB9B-E2D5-4CEF-88F1-C1898DCC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FB3AC-9F6C-47FD-B2CC-20CDC51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670CA-FAD0-47B5-BDCC-F92F46AA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37F04-E9E8-4718-A7AF-7E0795B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3F30C-3A62-4A35-AD92-ED795DDC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6B6-A5E9-4FEF-9447-E48B380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232C8-046F-4DE5-BDF0-7663509F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225E1-2813-4722-A7C1-DB15A1B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8639F-7D5C-41B6-A3E6-08DB07B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93A7D-35A8-4C22-B1F8-1DF547E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84AAD-A587-44F0-BC6B-4DF8C88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37E40-DC36-43DA-B6D2-64C146DE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D7E04-8D71-438C-A76A-D1B4986D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C6495-8947-4019-B614-42BEFDB7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57590-F008-4E5C-9B7C-71DA318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E91AA-A40F-49AD-8376-8B58B31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BE4-9CD9-45D5-A0E3-8721C93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A1DF6-6D8E-474C-9D30-4B23995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025AF-49FA-4242-9C42-88D50E08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1BC13-C9AD-4F29-9F5C-B5B59DE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E26DD-2F56-47CD-9F3C-B37B49A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2A7A2-C562-4A7E-A78D-0EF8B1D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EC013-E120-414F-8FA0-91BEBCB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9C2D2-EEE6-4E5E-9C86-0FBB1B1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1119F-C0AC-45C7-8B5B-911D0478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EDE0A-284D-48C7-88E6-FDE7093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9730E-AD3D-4ADB-8326-F8D39F48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592-29B3-4123-95F3-6E41E185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77209-C054-4F83-B139-C8F17BC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733C4-BC30-4CDE-82B3-50281545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E12CB-40B7-4BD8-B0C5-555A743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02EF4-B1D3-427C-AD90-8B1E00E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D566B-8DC6-41AF-B732-19615634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C17E9-4DC8-4EED-BC50-934ED28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B8084-D5F4-42DB-994A-F37358DD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98519-7F92-4590-ACFB-60AE21B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265E1-A1D8-48E7-BDA7-C262AB30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BFF63-ECBD-47EC-AD55-2CDCF134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B9FB-EBAA-42F7-925D-E35EA404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7973B-8883-4C46-83D7-1E8A06DE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2781-3077-4F39-A545-6CD9C5D3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35F2-1572-4AD6-8829-2906272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7008-1A46-4F78-83CF-7AC3BD5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4924-1A15-4966-AA42-7B966F4A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9BF4-0521-45DC-95C6-B8EB4020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FD8-FBF1-4C62-B571-37A88CF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869F-D6C5-4104-97C7-370B1A47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8DB5-7A55-466B-9664-0B14083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BFC4-7C13-4E53-B743-99585C4E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210D-34A1-4744-B753-9D4D72D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E99B-8F3F-4BBD-825C-E16A681F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54A3-08E2-49FC-9614-3942C05C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05C7-0B5D-4348-9F97-F580E6F6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9D398-8D18-4AE9-97A9-A06C08D3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8A0CA-2D82-4253-AB66-6E316EA2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BBFEA-1E4C-4E8D-8736-712340E0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440-7F9C-46C3-BFAE-E9D5ECC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8D4C0-B63C-44F0-9B45-006F6C3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14D75-E8BA-4777-A65A-5817BB5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0F176-F235-4256-A4E8-15C12BF2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1C184-9CF9-4B7B-B66A-B81D63D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58E9D-7C71-4E24-9C96-9D1265B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C3DEE-50A6-4C56-94D4-72249A6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E7E1A-4647-48C4-9313-C8564F1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64DCD-E92D-4D11-B01F-16FB5FA0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FD6DD-7B79-4D4B-B7F1-82D4FA15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CA95-29BB-420C-A3D1-69AB1586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F5C-92DE-44B2-94F0-3197ECEE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FA22-3177-441E-8BFA-A15DD8F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B264-C254-4714-B9E7-647B094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A037-B0B5-4A4F-92F7-8F7ECC2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4719-16B7-4D24-BE1A-6279CEBF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DF78-60E1-4F5D-BAE3-26417E0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7311-0F42-47FD-9144-CFD711C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E798-CA45-47B9-92BD-0792EEA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055B-017F-4E64-A295-DC0698B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1C79-798A-44DF-885A-B48CC77F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B683-59D5-4AD9-9795-B0CE33E6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52A-A14E-4FD3-9BE2-E6999D24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03219-5D68-4F56-B74B-BC04E2C6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D2A5-F8EF-4ACE-B7A5-E7F91216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B9BC-A601-4CA9-A6FB-D782716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6C52-03EE-4449-985B-C162189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8C3E-575F-4ACA-BAE0-EDFCE8EA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CF1D-E280-4A37-8509-FBE0A073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F887-CF8F-4BE1-A658-E3E3B46D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879F-C57C-4DE0-9E86-25F7D16C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53E6-3768-404D-851A-4EA3903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488D-DAB4-4ADA-8EBF-0568F85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D27-787C-4656-9DDE-9C4E254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46B2-1DD6-4813-A9D8-3414AC2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08D4-EB73-4D76-9ED2-72F51AB9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53CA-026A-4E99-AFB4-7F28696E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DEC0-6523-4E67-A042-D22811DB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8CC40-2EEC-409A-9628-EC708619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D41A-DB33-4D13-8C52-20528F6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1D1C-CAB9-48F0-A01D-77BDE272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B73E8-A47F-45F5-886F-B4059A2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C058-1322-4182-A94F-041F9FD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3064-36F0-4517-BBAB-A2F5E91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FB6-9E03-4FA6-A0E4-72E1FF5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C51B-DF7F-4A0C-8022-3CEC1D1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87ACB-46CA-4E69-8E19-A733F9C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EF6F6-DF66-431B-9523-DC624AC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0E923-2AA4-43FE-B2B6-C4448CC3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FC28D-E81E-4DDD-B594-A4A9BAE2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A2E71-58F7-4EDA-AF5B-14B8977C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58A9-375A-41D4-A4E8-B08C15D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33942-E072-4865-B1CB-A44F5DE3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DC50-AC10-402C-971E-A1BD4FC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1D117-5B69-4BA3-84BB-A59C0A3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19C-257B-404D-BBE8-FF780EC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A76B7-8E67-47CB-BF37-DC659CDA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CBEB6-66C4-4BE3-8EA1-E6CEDF3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E9CFD-E82F-4802-B6DC-058AF11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3677-0C19-42BD-B903-D823ED3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E0E8-A82D-4E53-AFD8-4D1E7DD6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6DBE-68E5-4F46-B624-B585D05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6383-129D-4CB4-8239-7228C967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01905-AE9A-4577-BB59-754F4F0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79F5E-0F61-4BD9-9A80-E2695DE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AD409-3615-49C9-A59C-591DE77D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E68-5BCC-4A76-9E6B-80C8512A5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8CF8-6792-4D3E-AC18-F79EF892D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A8F-8E93-4DA5-9908-C888F722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416-19FB-4E3C-991C-3D87D8E83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572D-C953-444C-9FE3-350B71ABF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F5D8-4349-4AF4-872D-15B66548A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7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1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EF2-B25A-4743-8479-8C5CA9584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3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981-B578-461C-8A41-03526C69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8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604-83B8-45E6-ABD0-94B1C10845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5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2D6B-F42E-4F9C-B917-3E79245594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71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4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4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1B5B-89E3-468C-A3E3-8EC5626445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D9E-C70C-404E-98E1-F81C85036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9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9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2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B03F-2C1B-4032-AF19-6E220F7F39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2FD-FD13-4F5E-8775-04B11BDC5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8834-45D9-4EB8-99F1-4583F899A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E0C-881E-43D9-A27B-D72CA4E77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C2A-FE0A-4F6D-90C4-E0FFF2EB6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1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1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3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89A9-064F-48CF-9B29-B99E092A26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0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0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000-468D-4622-9FA0-FD716360B8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2B88-FCDE-4F78-9C6A-F7955B882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Kasey Litch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0"/>
            </a:br>
            <a:r>
              <a:rPr b="0" lang="en-US" sz="10000" spc="-1" strike="noStrike">
                <a:solidFill>
                  <a:srgbClr val="ffffff"/>
                </a:solidFill>
                <a:latin typeface="Tahoma"/>
              </a:rPr>
              <a:t>Gracias Por La Visita! 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Es una cocina. Es </a:t>
            </a:r>
            <a:r>
              <a:rPr b="0" lang="es-ES" sz="5600" spc="-1" strike="noStrike">
                <a:solidFill>
                  <a:srgbClr val="ffffff"/>
                </a:solidFill>
                <a:latin typeface="Tahoma"/>
              </a:rPr>
              <a:t>futurista y estupendo.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2" name="" descr=""/>
          <p:cNvPicPr/>
          <p:nvPr/>
        </p:nvPicPr>
        <p:blipFill>
          <a:blip r:embed="rId2"/>
          <a:stretch/>
        </p:blipFill>
        <p:spPr>
          <a:xfrm>
            <a:off x="4648320" y="1982880"/>
            <a:ext cx="4038480" cy="411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Arial"/>
              </a:rPr>
              <a:t>Es una casa. Es muy grande y </a:t>
            </a:r>
            <a:r>
              <a:rPr b="0" lang="es-ES" sz="6600" spc="-1" strike="noStrike">
                <a:solidFill>
                  <a:srgbClr val="eaeaea"/>
                </a:solidFill>
                <a:latin typeface="Arial"/>
              </a:rPr>
              <a:t>diferente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67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2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Es un comedor. Es muy nuevo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4651200" y="1599840"/>
            <a:ext cx="4191120" cy="449892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futuristic-modular-table-and-chairs-design1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Es una sala. Es fabulosa y bella.</a:t>
            </a: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22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. Es bonita,es no increibl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s un cuarto. Es no viejo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8" name="" descr=""/>
          <p:cNvPicPr/>
          <p:nvPr/>
        </p:nvPicPr>
        <p:blipFill>
          <a:blip r:embed="rId1"/>
          <a:stretch/>
        </p:blipFill>
        <p:spPr>
          <a:xfrm>
            <a:off x="4913280" y="1905120"/>
            <a:ext cx="3932280" cy="4187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s un patio. Es pequena, es no grand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1" name="" descr=""/>
          <p:cNvPicPr/>
          <p:nvPr/>
        </p:nvPicPr>
        <p:blipFill>
          <a:blip r:embed="rId2"/>
          <a:stretch/>
        </p:blipFill>
        <p:spPr>
          <a:xfrm>
            <a:off x="4645080" y="1905120"/>
            <a:ext cx="3744720" cy="4111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Es un jardin. Es lujoso y modeno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6:12Z</dcterms:created>
  <dc:creator>litchfordkas</dc:creator>
  <dc:description/>
  <dc:language>en-US</dc:language>
  <cp:lastModifiedBy>Litchfordkas</cp:lastModifiedBy>
  <dcterms:modified xsi:type="dcterms:W3CDTF">2011-10-26T13:52:10Z</dcterms:modified>
  <cp:revision>8</cp:revision>
  <dc:subject/>
  <dc:title>La Casa</dc:title>
</cp:coreProperties>
</file>